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2726-979A-494A-8729-A874EB0EA57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F043-7511-491E-BC01-C686383B321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73200" y="484668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55920" y="4532400"/>
            <a:ext cx="1941480" cy="1893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73200" y="228600"/>
            <a:ext cx="3779640" cy="749160"/>
          </a:xfrm>
          <a:prstGeom prst="wedgeRectCallout">
            <a:avLst>
              <a:gd name="adj1" fmla="val 55935"/>
              <a:gd name="adj2" fmla="val 111328"/>
            </a:avLst>
          </a:prstGeom>
          <a:solidFill>
            <a:srgbClr val="9e1d3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roducts launched after Q1/04 not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to be communicated to ops n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2" name=""/>
          <p:cNvCxnSpPr>
            <a:stCxn id="560" idx="0"/>
            <a:endCxn id="560" idx="1"/>
          </p:cNvCxnSpPr>
          <p:nvPr/>
        </p:nvCxnSpPr>
        <p:spPr>
          <a:xfrm>
            <a:off x="673200" y="4532040"/>
            <a:ext cx="190728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563" name=""/>
          <p:cNvCxnSpPr>
            <a:stCxn id="560" idx="2"/>
            <a:endCxn id="560" idx="3"/>
          </p:cNvCxnSpPr>
          <p:nvPr/>
        </p:nvCxnSpPr>
        <p:spPr>
          <a:xfrm>
            <a:off x="673200" y="4736880"/>
            <a:ext cx="190728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2280"/>
            <a:ext cx="882000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093080" y="152280"/>
            <a:ext cx="91728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79280" y="6561000"/>
            <a:ext cx="1067040" cy="238320"/>
            <a:chOff x="179280" y="6561000"/>
            <a:chExt cx="1067040" cy="238320"/>
          </a:xfrm>
        </p:grpSpPr>
        <p:pic>
          <p:nvPicPr>
            <p:cNvPr id="8" name="" descr=""/>
            <p:cNvPicPr/>
            <p:nvPr/>
          </p:nvPicPr>
          <p:blipFill>
            <a:blip r:embed="rId2"/>
            <a:stretch/>
          </p:blipFill>
          <p:spPr>
            <a:xfrm>
              <a:off x="179280" y="6561000"/>
              <a:ext cx="1067040" cy="2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PlaceHolder 3"/>
            <p:cNvSpPr>
              <a:spLocks noGrp="1"/>
            </p:cNvSpPr>
            <p:nvPr>
              <p:ph type="ftr" idx="1"/>
            </p:nvPr>
          </p:nvSpPr>
          <p:spPr>
            <a:xfrm>
              <a:off x="179280" y="6561000"/>
              <a:ext cx="1067040" cy="23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2484360" y="6524640"/>
            <a:ext cx="65534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</a:t>
            </a:r>
            <a:fld id="{7FEEFC27-085A-4929-A195-DD595B2E0D7C}" type="datetime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30.07.26</a:t>
            </a:fld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37D75AF0-19DD-423E-B9C5-2CE133AE332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2000" y="152280"/>
            <a:ext cx="8820000" cy="264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2000" y="2924280"/>
            <a:ext cx="882000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145200" y="2343240"/>
            <a:ext cx="239760" cy="4651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84960" y="2343240"/>
            <a:ext cx="630360" cy="465120"/>
          </a:xfrm>
          <a:prstGeom prst="rect">
            <a:avLst/>
          </a:prstGeom>
          <a:solidFill>
            <a:srgbClr val="9e1d3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86240" y="1428840"/>
            <a:ext cx="857520" cy="20016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32240" y="4808520"/>
            <a:ext cx="4489200" cy="1017720"/>
          </a:xfrm>
          <a:prstGeom prst="rect">
            <a:avLst/>
          </a:prstGeom>
          <a:solidFill>
            <a:srgbClr val="d460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9280" y="5826240"/>
            <a:ext cx="4502160" cy="385560"/>
          </a:xfrm>
          <a:prstGeom prst="rect">
            <a:avLst/>
          </a:prstGeom>
          <a:solidFill>
            <a:srgbClr val="87b8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53160" y="3830760"/>
            <a:ext cx="1263600" cy="977760"/>
          </a:xfrm>
          <a:prstGeom prst="rect">
            <a:avLst/>
          </a:prstGeom>
          <a:solidFill>
            <a:srgbClr val="d460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840" y="3830760"/>
            <a:ext cx="5440320" cy="977760"/>
          </a:xfrm>
          <a:prstGeom prst="rect">
            <a:avLst/>
          </a:prstGeom>
          <a:solidFill>
            <a:srgbClr val="62646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4280" y="1917720"/>
            <a:ext cx="4971960" cy="480960"/>
          </a:xfrm>
          <a:prstGeom prst="rect">
            <a:avLst/>
          </a:prstGeom>
          <a:solidFill>
            <a:srgbClr val="62646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4280" y="2905200"/>
            <a:ext cx="4971960" cy="525240"/>
          </a:xfrm>
          <a:prstGeom prst="rect">
            <a:avLst/>
          </a:prstGeom>
          <a:solidFill>
            <a:srgbClr val="62646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43760" y="1428840"/>
            <a:ext cx="873000" cy="4888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43760" y="2808360"/>
            <a:ext cx="873000" cy="6220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43760" y="1916280"/>
            <a:ext cx="873000" cy="426960"/>
          </a:xfrm>
          <a:prstGeom prst="rect">
            <a:avLst/>
          </a:prstGeom>
          <a:solidFill>
            <a:srgbClr val="9e1d3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1040" y="3430440"/>
            <a:ext cx="6704280" cy="400320"/>
          </a:xfrm>
          <a:prstGeom prst="rect">
            <a:avLst/>
          </a:prstGeom>
          <a:solidFill>
            <a:srgbClr val="62646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1040" y="2398680"/>
            <a:ext cx="4975200" cy="506520"/>
          </a:xfrm>
          <a:prstGeom prst="rect">
            <a:avLst/>
          </a:prstGeom>
          <a:solidFill>
            <a:srgbClr val="62646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1040" y="1425600"/>
            <a:ext cx="4975200" cy="492120"/>
          </a:xfrm>
          <a:prstGeom prst="rect">
            <a:avLst/>
          </a:prstGeom>
          <a:solidFill>
            <a:srgbClr val="62646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1040" y="4808520"/>
            <a:ext cx="2212920" cy="865080"/>
          </a:xfrm>
          <a:prstGeom prst="rect">
            <a:avLst/>
          </a:prstGeom>
          <a:solidFill>
            <a:srgbClr val="d460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1040" y="5670720"/>
            <a:ext cx="2210040" cy="527040"/>
          </a:xfrm>
          <a:prstGeom prst="rect">
            <a:avLst/>
          </a:prstGeom>
          <a:solidFill>
            <a:srgbClr val="87b8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45440" y="3030480"/>
            <a:ext cx="1641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hone cla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578720" y="3279600"/>
            <a:ext cx="140328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Exclus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u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Emo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as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45440" y="4718160"/>
            <a:ext cx="1641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Feature lev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78720" y="5010120"/>
            <a:ext cx="140328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t. Came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Edg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olour Displa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/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bile Phones </a:t>
            </a:r>
            <a:r>
              <a:rPr b="1" lang="en-GB" sz="2000" spc="-1" strike="noStrike">
                <a:solidFill>
                  <a:srgbClr val="9e1d3e"/>
                </a:solidFill>
                <a:latin typeface="Arial"/>
              </a:rPr>
              <a:t>EMEA Roadmap CY 2004/2005</a:t>
            </a:r>
            <a:br>
              <a:rPr sz="2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ersion December 03, 2004; Status 07.12.0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7345440" y="4384800"/>
            <a:ext cx="179280" cy="179280"/>
          </a:xfrm>
          <a:prstGeom prst="triangle">
            <a:avLst>
              <a:gd name="adj" fmla="val 50000"/>
            </a:avLst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345440" y="3507480"/>
            <a:ext cx="179280" cy="179640"/>
          </a:xfrm>
          <a:prstGeom prst="triangle">
            <a:avLst>
              <a:gd name="adj" fmla="val 50000"/>
            </a:avLst>
          </a:prstGeom>
          <a:solidFill>
            <a:srgbClr val="a92b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7345440" y="3289320"/>
            <a:ext cx="179280" cy="179280"/>
          </a:xfrm>
          <a:prstGeom prst="triangle">
            <a:avLst>
              <a:gd name="adj" fmla="val 50000"/>
            </a:avLst>
          </a:prstGeom>
          <a:solidFill>
            <a:srgbClr val="669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7345440" y="3727440"/>
            <a:ext cx="179280" cy="179280"/>
          </a:xfrm>
          <a:prstGeom prst="triangle">
            <a:avLst>
              <a:gd name="adj" fmla="val 50000"/>
            </a:avLst>
          </a:prstGeom>
          <a:solidFill>
            <a:srgbClr val="6c83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345440" y="3946680"/>
            <a:ext cx="179280" cy="179280"/>
          </a:xfrm>
          <a:prstGeom prst="triangle">
            <a:avLst>
              <a:gd name="adj" fmla="val 50000"/>
            </a:avLst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345440" y="4165560"/>
            <a:ext cx="179280" cy="179280"/>
          </a:xfrm>
          <a:prstGeom prst="triangle">
            <a:avLst>
              <a:gd name="adj" fmla="val 50000"/>
            </a:avLst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345440" y="5634000"/>
            <a:ext cx="179280" cy="179280"/>
          </a:xfrm>
          <a:prstGeom prst="rect">
            <a:avLst/>
          </a:prstGeom>
          <a:solidFill>
            <a:srgbClr val="d460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45440" y="5853240"/>
            <a:ext cx="179280" cy="179280"/>
          </a:xfrm>
          <a:prstGeom prst="rect">
            <a:avLst/>
          </a:prstGeom>
          <a:solidFill>
            <a:srgbClr val="87b8e5">
              <a:alpha val="50000"/>
            </a:srgbClr>
          </a:solidFill>
          <a:ln w="9360">
            <a:solidFill>
              <a:srgbClr val="e6f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345440" y="5415120"/>
            <a:ext cx="179280" cy="179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7345440" y="5195880"/>
            <a:ext cx="179280" cy="179280"/>
          </a:xfrm>
          <a:prstGeom prst="rect">
            <a:avLst/>
          </a:prstGeom>
          <a:solidFill>
            <a:srgbClr val="62646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345440" y="4975920"/>
            <a:ext cx="179280" cy="179640"/>
          </a:xfrm>
          <a:prstGeom prst="rect">
            <a:avLst/>
          </a:prstGeom>
          <a:solidFill>
            <a:srgbClr val="9e1d3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125800" y="1930320"/>
            <a:ext cx="122040" cy="412560"/>
            <a:chOff x="2125800" y="1930320"/>
            <a:chExt cx="122040" cy="412560"/>
          </a:xfrm>
        </p:grpSpPr>
        <p:sp>
          <p:nvSpPr>
            <p:cNvPr id="128" name=""/>
            <p:cNvSpPr/>
            <p:nvPr/>
          </p:nvSpPr>
          <p:spPr>
            <a:xfrm>
              <a:off x="2125800" y="1930320"/>
              <a:ext cx="122040" cy="41256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2868">
                  <a:moveTo>
                    <a:pt x="3600" y="0"/>
                  </a:moveTo>
                  <a:arcTo wR="3600" hR="3600" stAng="16200000" swAng="-5400000"/>
                  <a:lnTo>
                    <a:pt x="0" y="69268"/>
                  </a:lnTo>
                  <a:arcTo wR="3600" hR="3600" stAng="10800000" swAng="-5400000"/>
                  <a:lnTo>
                    <a:pt x="18000" y="728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c837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25800" y="20127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25800" y="21366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25800" y="21780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25800" y="22190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25800" y="22604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25800" y="230148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7600" y="21780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87360" y="21780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55680" y="21780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795240" y="2378160"/>
            <a:ext cx="113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36480" y="2413080"/>
            <a:ext cx="122400" cy="412560"/>
            <a:chOff x="636480" y="2413080"/>
            <a:chExt cx="122400" cy="412560"/>
          </a:xfrm>
        </p:grpSpPr>
        <p:sp>
          <p:nvSpPr>
            <p:cNvPr id="140" name=""/>
            <p:cNvSpPr/>
            <p:nvPr/>
          </p:nvSpPr>
          <p:spPr>
            <a:xfrm>
              <a:off x="636480" y="2413080"/>
              <a:ext cx="122400" cy="412560"/>
            </a:xfrm>
            <a:custGeom>
              <a:avLst/>
              <a:gdLst>
                <a:gd name="textAreaLeft" fmla="*/ 5760 w 122400"/>
                <a:gd name="textAreaRight" fmla="*/ 116640 w 12240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2655">
                  <a:moveTo>
                    <a:pt x="3600" y="0"/>
                  </a:moveTo>
                  <a:arcTo wR="3600" hR="3600" stAng="16200000" swAng="-5400000"/>
                  <a:lnTo>
                    <a:pt x="0" y="69055"/>
                  </a:lnTo>
                  <a:arcTo wR="3600" hR="3600" stAng="10800000" swAng="-5400000"/>
                  <a:lnTo>
                    <a:pt x="18000" y="726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c837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6480" y="249552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6480" y="261936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36480" y="266076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6480" y="27018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6480" y="27432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6480" y="27846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8640" y="26607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8400" y="26607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6720" y="26607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666800" y="3666960"/>
            <a:ext cx="47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FX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052720" y="3716280"/>
            <a:ext cx="207360" cy="387360"/>
            <a:chOff x="2052720" y="3716280"/>
            <a:chExt cx="207360" cy="387360"/>
          </a:xfrm>
        </p:grpSpPr>
        <p:sp>
          <p:nvSpPr>
            <p:cNvPr id="152" name=""/>
            <p:cNvSpPr/>
            <p:nvPr/>
          </p:nvSpPr>
          <p:spPr>
            <a:xfrm>
              <a:off x="2134800" y="3716280"/>
              <a:ext cx="125280" cy="232200"/>
            </a:xfrm>
            <a:custGeom>
              <a:avLst/>
              <a:gdLst>
                <a:gd name="textAreaLeft" fmla="*/ 6120 w 125280"/>
                <a:gd name="textAreaRight" fmla="*/ 119160 w 125280"/>
                <a:gd name="textAreaTop" fmla="*/ 6120 h 232200"/>
                <a:gd name="textAreaBottom" fmla="*/ 226080 h 232200"/>
              </a:gdLst>
              <a:ahLst/>
              <a:rect l="textAreaLeft" t="textAreaTop" r="textAreaRight" b="textAreaBottom"/>
              <a:pathLst>
                <a:path w="21600" h="39982">
                  <a:moveTo>
                    <a:pt x="3600" y="0"/>
                  </a:moveTo>
                  <a:arcTo wR="3600" hR="3600" stAng="16200000" swAng="-5400000"/>
                  <a:lnTo>
                    <a:pt x="0" y="36382"/>
                  </a:lnTo>
                  <a:arcTo wR="3600" hR="3600" stAng="10800000" swAng="-5400000"/>
                  <a:lnTo>
                    <a:pt x="18000" y="399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52720" y="3946320"/>
              <a:ext cx="194040" cy="1573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34800" y="379368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34800" y="390996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21120" y="396792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095560" y="400680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77920" y="404568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089800" y="396792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056320" y="407700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2119320" y="397044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152440" y="396792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527840" y="5203800"/>
            <a:ext cx="28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368360" y="5238720"/>
            <a:ext cx="122400" cy="412920"/>
            <a:chOff x="1368360" y="5238720"/>
            <a:chExt cx="122400" cy="412920"/>
          </a:xfrm>
        </p:grpSpPr>
        <p:sp>
          <p:nvSpPr>
            <p:cNvPr id="165" name=""/>
            <p:cNvSpPr/>
            <p:nvPr/>
          </p:nvSpPr>
          <p:spPr>
            <a:xfrm>
              <a:off x="1368360" y="5238720"/>
              <a:ext cx="122400" cy="412920"/>
            </a:xfrm>
            <a:custGeom>
              <a:avLst/>
              <a:gdLst>
                <a:gd name="textAreaLeft" fmla="*/ 5760 w 122400"/>
                <a:gd name="textAreaRight" fmla="*/ 116640 w 122400"/>
                <a:gd name="textAreaTop" fmla="*/ 5760 h 412920"/>
                <a:gd name="textAreaBottom" fmla="*/ 407160 h 412920"/>
              </a:gdLst>
              <a:ahLst/>
              <a:rect l="textAreaLeft" t="textAreaTop" r="textAreaRight" b="textAreaBottom"/>
              <a:pathLst>
                <a:path w="21600" h="72718">
                  <a:moveTo>
                    <a:pt x="3600" y="0"/>
                  </a:moveTo>
                  <a:arcTo wR="3600" hR="3600" stAng="16200000" swAng="-5400000"/>
                  <a:lnTo>
                    <a:pt x="0" y="69118"/>
                  </a:lnTo>
                  <a:arcTo wR="3600" hR="3600" stAng="10800000" swAng="-5400000"/>
                  <a:lnTo>
                    <a:pt x="18000" y="7271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3b20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68360" y="532152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68360" y="544536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68360" y="54864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68360" y="55278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68360" y="55692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68360" y="561024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60520" y="5486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30280" y="5486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398600" y="5486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865680" y="2857680"/>
            <a:ext cx="51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48280" y="3332160"/>
            <a:ext cx="85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53040" y="3560760"/>
            <a:ext cx="85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16880" y="4454640"/>
            <a:ext cx="85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42320" y="3770280"/>
            <a:ext cx="85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491240" y="3770280"/>
            <a:ext cx="84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62320" y="2881440"/>
            <a:ext cx="62712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ir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683240" y="2922480"/>
            <a:ext cx="122040" cy="412920"/>
            <a:chOff x="4683240" y="2922480"/>
            <a:chExt cx="122040" cy="412920"/>
          </a:xfrm>
        </p:grpSpPr>
        <p:sp>
          <p:nvSpPr>
            <p:cNvPr id="183" name=""/>
            <p:cNvSpPr/>
            <p:nvPr/>
          </p:nvSpPr>
          <p:spPr>
            <a:xfrm>
              <a:off x="4683240" y="2922480"/>
              <a:ext cx="122040" cy="41292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412920"/>
                <a:gd name="textAreaBottom" fmla="*/ 407160 h 412920"/>
              </a:gdLst>
              <a:ahLst/>
              <a:rect l="textAreaLeft" t="textAreaTop" r="textAreaRight" b="textAreaBottom"/>
              <a:pathLst>
                <a:path w="21600" h="72932">
                  <a:moveTo>
                    <a:pt x="3600" y="0"/>
                  </a:moveTo>
                  <a:arcTo wR="3600" hR="3600" stAng="16200000" swAng="-5400000"/>
                  <a:lnTo>
                    <a:pt x="0" y="69332"/>
                  </a:lnTo>
                  <a:arcTo wR="3600" hR="3600" stAng="10800000" swAng="-5400000"/>
                  <a:lnTo>
                    <a:pt x="18000" y="72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46028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83240" y="300528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83240" y="312912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83240" y="31701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83240" y="32115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83240" y="32529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83240" y="32940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775400" y="31701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45160" y="31701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713480" y="31701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646440" y="1424160"/>
            <a:ext cx="0" cy="477360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20920" y="1420920"/>
            <a:ext cx="0" cy="477684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32240" y="1420920"/>
            <a:ext cx="0" cy="47768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57760" y="1425600"/>
            <a:ext cx="0" cy="477216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70520" y="1424160"/>
            <a:ext cx="0" cy="477360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52280" y="1425600"/>
            <a:ext cx="155160" cy="4771800"/>
            <a:chOff x="152280" y="1425600"/>
            <a:chExt cx="155160" cy="4771800"/>
          </a:xfrm>
        </p:grpSpPr>
        <p:sp>
          <p:nvSpPr>
            <p:cNvPr id="199" name=""/>
            <p:cNvSpPr/>
            <p:nvPr/>
          </p:nvSpPr>
          <p:spPr>
            <a:xfrm>
              <a:off x="152280" y="1425600"/>
              <a:ext cx="155160" cy="477180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-38160" y="3710520"/>
              <a:ext cx="558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Positio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07800" y="1293840"/>
            <a:ext cx="1113120" cy="131760"/>
          </a:xfrm>
          <a:prstGeom prst="rect">
            <a:avLst/>
          </a:prstGeom>
          <a:solidFill>
            <a:srgbClr val="afc2c8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06760" y="1298520"/>
            <a:ext cx="11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20920" y="1293840"/>
            <a:ext cx="1111320" cy="131760"/>
          </a:xfrm>
          <a:prstGeom prst="rect">
            <a:avLst/>
          </a:prstGeom>
          <a:solidFill>
            <a:srgbClr val="afc2c8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18800" y="1298520"/>
            <a:ext cx="11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32240" y="1293840"/>
            <a:ext cx="1114200" cy="131760"/>
          </a:xfrm>
          <a:prstGeom prst="rect">
            <a:avLst/>
          </a:prstGeom>
          <a:solidFill>
            <a:srgbClr val="afc2c8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32640" y="1298520"/>
            <a:ext cx="11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46440" y="1293840"/>
            <a:ext cx="1111320" cy="131760"/>
          </a:xfrm>
          <a:prstGeom prst="rect">
            <a:avLst/>
          </a:prstGeom>
          <a:solidFill>
            <a:srgbClr val="afc2c8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45400" y="1298520"/>
            <a:ext cx="11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53080" y="1293840"/>
            <a:ext cx="1112760" cy="131760"/>
          </a:xfrm>
          <a:prstGeom prst="rect">
            <a:avLst/>
          </a:prstGeom>
          <a:solidFill>
            <a:srgbClr val="afc2c8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56000" y="1298520"/>
            <a:ext cx="11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70520" y="1293840"/>
            <a:ext cx="1144800" cy="131760"/>
          </a:xfrm>
          <a:prstGeom prst="rect">
            <a:avLst/>
          </a:prstGeom>
          <a:solidFill>
            <a:srgbClr val="afc2c8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85320" y="1298520"/>
            <a:ext cx="11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35120" y="1166760"/>
            <a:ext cx="4480200" cy="123840"/>
          </a:xfrm>
          <a:prstGeom prst="rect">
            <a:avLst/>
          </a:prstGeom>
          <a:solidFill>
            <a:srgbClr val="afc2c8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12320" y="1171440"/>
            <a:ext cx="31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CY200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7800" y="1165320"/>
            <a:ext cx="2227320" cy="127080"/>
          </a:xfrm>
          <a:prstGeom prst="rect">
            <a:avLst/>
          </a:prstGeom>
          <a:solidFill>
            <a:srgbClr val="afc2c8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29120" y="1171440"/>
            <a:ext cx="31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CY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21440" y="1403280"/>
            <a:ext cx="45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yd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805360" y="1444680"/>
            <a:ext cx="303120" cy="291960"/>
            <a:chOff x="5805360" y="1444680"/>
            <a:chExt cx="303120" cy="291960"/>
          </a:xfrm>
        </p:grpSpPr>
        <p:sp>
          <p:nvSpPr>
            <p:cNvPr id="219" name=""/>
            <p:cNvSpPr/>
            <p:nvPr/>
          </p:nvSpPr>
          <p:spPr>
            <a:xfrm>
              <a:off x="5805360" y="1593720"/>
              <a:ext cx="236520" cy="1429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a92b7f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62646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9240" y="161460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57560" y="16495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7040" y="168444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851080" y="1614600"/>
              <a:ext cx="76320" cy="95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10040" y="17128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5886000" y="1616040"/>
              <a:ext cx="76320" cy="96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5927400" y="1614600"/>
              <a:ext cx="76320" cy="95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71960" y="1444680"/>
              <a:ext cx="236520" cy="17604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a92b7f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62646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46480" y="14907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903640" y="15526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>
            <a:hlinkClick r:id="rId1" action="ppaction://hlinksldjump"/>
          </p:cNvPr>
          <p:cNvSpPr/>
          <p:nvPr/>
        </p:nvSpPr>
        <p:spPr>
          <a:xfrm>
            <a:off x="1177560" y="189396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L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43120" y="2071800"/>
            <a:ext cx="236520" cy="142920"/>
          </a:xfrm>
          <a:custGeom>
            <a:avLst/>
            <a:gdLst/>
            <a:ahLst/>
            <a:rect l="l" t="t" r="r" b="b"/>
            <a:pathLst>
              <a:path w="297" h="195">
                <a:moveTo>
                  <a:pt x="126" y="3"/>
                </a:moveTo>
                <a:lnTo>
                  <a:pt x="294" y="0"/>
                </a:lnTo>
                <a:lnTo>
                  <a:pt x="297" y="27"/>
                </a:lnTo>
                <a:lnTo>
                  <a:pt x="174" y="195"/>
                </a:lnTo>
                <a:lnTo>
                  <a:pt x="6" y="192"/>
                </a:lnTo>
                <a:lnTo>
                  <a:pt x="0" y="174"/>
                </a:lnTo>
                <a:lnTo>
                  <a:pt x="126" y="3"/>
                </a:lnTo>
                <a:close/>
              </a:path>
            </a:pathLst>
          </a:custGeom>
          <a:solidFill>
            <a:srgbClr val="a92b7f"/>
          </a:solidFill>
          <a:ln w="9360">
            <a:solidFill>
              <a:srgbClr val="ffffff"/>
            </a:solidFill>
            <a:round/>
          </a:ln>
          <a:effectLst>
            <a:outerShdw dist="36147" dir="2700000" blurRad="0" rotWithShape="0">
              <a:srgbClr val="62646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27000" y="20923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95320" y="212724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888840" y="2092320"/>
            <a:ext cx="76320" cy="9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923760" y="2093760"/>
            <a:ext cx="76320" cy="96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965160" y="2092320"/>
            <a:ext cx="76320" cy="9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09720" y="1922400"/>
            <a:ext cx="236520" cy="176400"/>
          </a:xfrm>
          <a:custGeom>
            <a:avLst/>
            <a:gdLst/>
            <a:ahLst/>
            <a:rect l="l" t="t" r="r" b="b"/>
            <a:pathLst>
              <a:path w="297" h="195">
                <a:moveTo>
                  <a:pt x="126" y="3"/>
                </a:moveTo>
                <a:lnTo>
                  <a:pt x="294" y="0"/>
                </a:lnTo>
                <a:lnTo>
                  <a:pt x="297" y="27"/>
                </a:lnTo>
                <a:lnTo>
                  <a:pt x="174" y="195"/>
                </a:lnTo>
                <a:lnTo>
                  <a:pt x="6" y="192"/>
                </a:lnTo>
                <a:lnTo>
                  <a:pt x="0" y="174"/>
                </a:lnTo>
                <a:lnTo>
                  <a:pt x="126" y="3"/>
                </a:lnTo>
                <a:close/>
              </a:path>
            </a:pathLst>
          </a:custGeom>
          <a:solidFill>
            <a:srgbClr val="a92b7f"/>
          </a:solidFill>
          <a:ln w="9360">
            <a:solidFill>
              <a:srgbClr val="ffffff"/>
            </a:solidFill>
            <a:round/>
          </a:ln>
          <a:effectLst>
            <a:outerShdw dist="36147" dir="2700000" blurRad="0" rotWithShape="0">
              <a:srgbClr val="62646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84240" y="196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1400" y="2030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32480" y="1893960"/>
            <a:ext cx="48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olf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309920" y="4807080"/>
            <a:ext cx="122400" cy="412560"/>
            <a:chOff x="4309920" y="4807080"/>
            <a:chExt cx="122400" cy="412560"/>
          </a:xfrm>
        </p:grpSpPr>
        <p:sp>
          <p:nvSpPr>
            <p:cNvPr id="242" name=""/>
            <p:cNvSpPr/>
            <p:nvPr/>
          </p:nvSpPr>
          <p:spPr>
            <a:xfrm>
              <a:off x="4309920" y="4807080"/>
              <a:ext cx="122400" cy="412560"/>
            </a:xfrm>
            <a:custGeom>
              <a:avLst/>
              <a:gdLst>
                <a:gd name="textAreaLeft" fmla="*/ 5760 w 122400"/>
                <a:gd name="textAreaRight" fmla="*/ 116640 w 12240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2655">
                  <a:moveTo>
                    <a:pt x="3600" y="0"/>
                  </a:moveTo>
                  <a:arcTo wR="3600" hR="3600" stAng="16200000" swAng="-5400000"/>
                  <a:lnTo>
                    <a:pt x="0" y="69055"/>
                  </a:lnTo>
                  <a:arcTo wR="3600" hR="3600" stAng="10800000" swAng="-5400000"/>
                  <a:lnTo>
                    <a:pt x="18000" y="726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3b20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09920" y="488952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309920" y="501336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09920" y="50544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309920" y="50958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309920" y="51372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09920" y="517824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01720" y="50544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371120" y="50544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40520" y="50544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805680" y="5657760"/>
            <a:ext cx="28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625320" y="5688000"/>
            <a:ext cx="122040" cy="412920"/>
            <a:chOff x="625320" y="5688000"/>
            <a:chExt cx="122040" cy="412920"/>
          </a:xfrm>
        </p:grpSpPr>
        <p:sp>
          <p:nvSpPr>
            <p:cNvPr id="254" name=""/>
            <p:cNvSpPr/>
            <p:nvPr/>
          </p:nvSpPr>
          <p:spPr>
            <a:xfrm>
              <a:off x="625320" y="5688000"/>
              <a:ext cx="122040" cy="41292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412920"/>
                <a:gd name="textAreaBottom" fmla="*/ 407160 h 412920"/>
              </a:gdLst>
              <a:ahLst/>
              <a:rect l="textAreaLeft" t="textAreaTop" r="textAreaRight" b="textAreaBottom"/>
              <a:pathLst>
                <a:path w="21600" h="72932">
                  <a:moveTo>
                    <a:pt x="3600" y="0"/>
                  </a:moveTo>
                  <a:arcTo wR="3600" hR="3600" stAng="16200000" swAng="-5400000"/>
                  <a:lnTo>
                    <a:pt x="0" y="69332"/>
                  </a:lnTo>
                  <a:arcTo wR="3600" hR="3600" stAng="10800000" swAng="-5400000"/>
                  <a:lnTo>
                    <a:pt x="18000" y="72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3b20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5320" y="57708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5320" y="58946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5320" y="593568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25320" y="597708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5320" y="601848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5320" y="605952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7480" y="593568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7240" y="593568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560" y="593568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485960" y="5203800"/>
            <a:ext cx="416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ibr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4314960" y="5238720"/>
            <a:ext cx="122040" cy="412920"/>
            <a:chOff x="4314960" y="5238720"/>
            <a:chExt cx="122040" cy="412920"/>
          </a:xfrm>
        </p:grpSpPr>
        <p:sp>
          <p:nvSpPr>
            <p:cNvPr id="266" name=""/>
            <p:cNvSpPr/>
            <p:nvPr/>
          </p:nvSpPr>
          <p:spPr>
            <a:xfrm>
              <a:off x="4314960" y="5238720"/>
              <a:ext cx="122040" cy="41292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412920"/>
                <a:gd name="textAreaBottom" fmla="*/ 407160 h 412920"/>
              </a:gdLst>
              <a:ahLst/>
              <a:rect l="textAreaLeft" t="textAreaTop" r="textAreaRight" b="textAreaBottom"/>
              <a:pathLst>
                <a:path w="21600" h="72932">
                  <a:moveTo>
                    <a:pt x="3600" y="0"/>
                  </a:moveTo>
                  <a:arcTo wR="3600" hR="3600" stAng="16200000" swAng="-5400000"/>
                  <a:lnTo>
                    <a:pt x="0" y="69332"/>
                  </a:lnTo>
                  <a:arcTo wR="3600" hR="3600" stAng="10800000" swAng="-5400000"/>
                  <a:lnTo>
                    <a:pt x="18000" y="72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3b20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14960" y="532152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14960" y="54453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14960" y="54864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14960" y="55278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314960" y="55692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14960" y="56102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06760" y="5486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376520" y="5486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44840" y="5486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957760" y="5337000"/>
            <a:ext cx="56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781360" y="5372280"/>
            <a:ext cx="122040" cy="412560"/>
            <a:chOff x="2781360" y="5372280"/>
            <a:chExt cx="122040" cy="412560"/>
          </a:xfrm>
        </p:grpSpPr>
        <p:sp>
          <p:nvSpPr>
            <p:cNvPr id="278" name=""/>
            <p:cNvSpPr/>
            <p:nvPr/>
          </p:nvSpPr>
          <p:spPr>
            <a:xfrm>
              <a:off x="2781360" y="5372280"/>
              <a:ext cx="122040" cy="41256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2868">
                  <a:moveTo>
                    <a:pt x="3600" y="0"/>
                  </a:moveTo>
                  <a:arcTo wR="3600" hR="3600" stAng="16200000" swAng="-5400000"/>
                  <a:lnTo>
                    <a:pt x="0" y="69268"/>
                  </a:lnTo>
                  <a:arcTo wR="3600" hR="3600" stAng="10800000" swAng="-5400000"/>
                  <a:lnTo>
                    <a:pt x="18000" y="728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3b20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81360" y="545472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81360" y="55785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781360" y="56196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781360" y="56610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81360" y="57024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81360" y="57434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73160" y="56196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42920" y="56196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811240" y="56196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2935440" y="235440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F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708280" y="2387520"/>
            <a:ext cx="207720" cy="387360"/>
            <a:chOff x="2708280" y="2387520"/>
            <a:chExt cx="207720" cy="387360"/>
          </a:xfrm>
        </p:grpSpPr>
        <p:sp>
          <p:nvSpPr>
            <p:cNvPr id="290" name=""/>
            <p:cNvSpPr/>
            <p:nvPr/>
          </p:nvSpPr>
          <p:spPr>
            <a:xfrm>
              <a:off x="2791440" y="2387520"/>
              <a:ext cx="124560" cy="231840"/>
            </a:xfrm>
            <a:custGeom>
              <a:avLst/>
              <a:gdLst>
                <a:gd name="textAreaLeft" fmla="*/ 5760 w 124560"/>
                <a:gd name="textAreaRight" fmla="*/ 118800 w 124560"/>
                <a:gd name="textAreaTop" fmla="*/ 5760 h 231840"/>
                <a:gd name="textAreaBottom" fmla="*/ 226080 h 231840"/>
              </a:gdLst>
              <a:ahLst/>
              <a:rect l="textAreaLeft" t="textAreaTop" r="textAreaRight" b="textAreaBottom"/>
              <a:pathLst>
                <a:path w="21600" h="40150">
                  <a:moveTo>
                    <a:pt x="3600" y="0"/>
                  </a:moveTo>
                  <a:arcTo wR="3600" hR="3600" stAng="16200000" swAng="-5400000"/>
                  <a:lnTo>
                    <a:pt x="0" y="36550"/>
                  </a:lnTo>
                  <a:arcTo wR="3600" hR="3600" stAng="10800000" swAng="-5400000"/>
                  <a:lnTo>
                    <a:pt x="18000" y="401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92b7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708280" y="2617920"/>
              <a:ext cx="195120" cy="15696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a92b7f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791440" y="2465280"/>
              <a:ext cx="12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791440" y="2581200"/>
              <a:ext cx="12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77040" y="2639880"/>
              <a:ext cx="12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751840" y="2678040"/>
              <a:ext cx="12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734200" y="2716200"/>
              <a:ext cx="12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2744280" y="2639880"/>
              <a:ext cx="64440" cy="106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712600" y="2747880"/>
              <a:ext cx="12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775240" y="2641680"/>
              <a:ext cx="6300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2808720" y="2639880"/>
              <a:ext cx="63000" cy="106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150840" y="6261480"/>
            <a:ext cx="70041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*1) SK65 and S64 w/o camera; *2) S64, Aries to be finally confirmed ; ODMs: CFX65, SF65, Mars, Wega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113360" y="3371760"/>
            <a:ext cx="64296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hoen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681440" y="3408480"/>
            <a:ext cx="123840" cy="412560"/>
            <a:chOff x="4681440" y="3408480"/>
            <a:chExt cx="123840" cy="412560"/>
          </a:xfrm>
        </p:grpSpPr>
        <p:sp>
          <p:nvSpPr>
            <p:cNvPr id="304" name=""/>
            <p:cNvSpPr/>
            <p:nvPr/>
          </p:nvSpPr>
          <p:spPr>
            <a:xfrm>
              <a:off x="4681440" y="3408480"/>
              <a:ext cx="123840" cy="412560"/>
            </a:xfrm>
            <a:custGeom>
              <a:avLst/>
              <a:gdLst>
                <a:gd name="textAreaLeft" fmla="*/ 5760 w 123840"/>
                <a:gd name="textAreaRight" fmla="*/ 118080 w 12384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1812">
                  <a:moveTo>
                    <a:pt x="3600" y="0"/>
                  </a:moveTo>
                  <a:arcTo wR="3600" hR="3600" stAng="16200000" swAng="-5400000"/>
                  <a:lnTo>
                    <a:pt x="0" y="68212"/>
                  </a:lnTo>
                  <a:arcTo wR="3600" hR="3600" stAng="10800000" swAng="-5400000"/>
                  <a:lnTo>
                    <a:pt x="18000" y="718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681440" y="349092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681440" y="361476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681440" y="365580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681440" y="369720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81440" y="373860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681440" y="377964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74320" y="36558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43360" y="36558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712400" y="36558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5959440" y="3827520"/>
            <a:ext cx="4590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389560" y="2889360"/>
            <a:ext cx="4874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74800" y="216216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47800" y="21906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16400" y="3809880"/>
            <a:ext cx="614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e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218280" y="1917720"/>
            <a:ext cx="122040" cy="412560"/>
            <a:chOff x="6218280" y="1917720"/>
            <a:chExt cx="122040" cy="412560"/>
          </a:xfrm>
        </p:grpSpPr>
        <p:sp>
          <p:nvSpPr>
            <p:cNvPr id="320" name=""/>
            <p:cNvSpPr/>
            <p:nvPr/>
          </p:nvSpPr>
          <p:spPr>
            <a:xfrm>
              <a:off x="6218280" y="1917720"/>
              <a:ext cx="122040" cy="41256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2868">
                  <a:moveTo>
                    <a:pt x="3600" y="0"/>
                  </a:moveTo>
                  <a:arcTo wR="3600" hR="3600" stAng="16200000" swAng="-5400000"/>
                  <a:lnTo>
                    <a:pt x="0" y="69268"/>
                  </a:lnTo>
                  <a:arcTo wR="3600" hR="3600" stAng="10800000" swAng="-5400000"/>
                  <a:lnTo>
                    <a:pt x="18000" y="728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92b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18280" y="20001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218280" y="21240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18280" y="21654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18280" y="22064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218280" y="22478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218280" y="22892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310080" y="2165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279840" y="2165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248160" y="2165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684840" y="2378160"/>
            <a:ext cx="48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olf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697800" y="2540160"/>
            <a:ext cx="35856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1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17680" y="2081160"/>
            <a:ext cx="3412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11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08200" y="2543040"/>
            <a:ext cx="3412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7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760400" y="3841920"/>
            <a:ext cx="3412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11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39720" y="5372280"/>
            <a:ext cx="34164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9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308480" y="3043080"/>
            <a:ext cx="35244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6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29360" y="1573200"/>
            <a:ext cx="33984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9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173240" y="2065320"/>
            <a:ext cx="3412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8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445080" y="2055960"/>
            <a:ext cx="35892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10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73720" y="4971960"/>
            <a:ext cx="36180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5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216400" y="4011480"/>
            <a:ext cx="35892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7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07280" y="3046320"/>
            <a:ext cx="35712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10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81640" y="5372280"/>
            <a:ext cx="36180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5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97040" y="5838840"/>
            <a:ext cx="3412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7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975040" y="5505480"/>
            <a:ext cx="3412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957400" y="2522520"/>
            <a:ext cx="3430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278240" y="3540240"/>
            <a:ext cx="36216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6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959440" y="3997440"/>
            <a:ext cx="36216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9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38880" y="3063960"/>
            <a:ext cx="37152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9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2440" y="1033560"/>
            <a:ext cx="1454760" cy="152640"/>
          </a:xfrm>
          <a:prstGeom prst="rect">
            <a:avLst/>
          </a:prstGeom>
          <a:solidFill>
            <a:srgbClr val="5656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Market availability d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2778120" y="5799240"/>
            <a:ext cx="512640" cy="442800"/>
            <a:chOff x="2778120" y="5799240"/>
            <a:chExt cx="512640" cy="442800"/>
          </a:xfrm>
        </p:grpSpPr>
        <p:sp>
          <p:nvSpPr>
            <p:cNvPr id="353" name=""/>
            <p:cNvSpPr/>
            <p:nvPr/>
          </p:nvSpPr>
          <p:spPr>
            <a:xfrm>
              <a:off x="2959200" y="579924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A5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2778120" y="5829480"/>
              <a:ext cx="122040" cy="412560"/>
              <a:chOff x="2778120" y="5829480"/>
              <a:chExt cx="122040" cy="412560"/>
            </a:xfrm>
          </p:grpSpPr>
          <p:sp>
            <p:nvSpPr>
              <p:cNvPr id="355" name=""/>
              <p:cNvSpPr/>
              <p:nvPr/>
            </p:nvSpPr>
            <p:spPr>
              <a:xfrm>
                <a:off x="2778120" y="5829480"/>
                <a:ext cx="122040" cy="412560"/>
              </a:xfrm>
              <a:custGeom>
                <a:avLst/>
                <a:gdLst>
                  <a:gd name="textAreaLeft" fmla="*/ 5760 w 122040"/>
                  <a:gd name="textAreaRight" fmla="*/ 116280 w 122040"/>
                  <a:gd name="textAreaTop" fmla="*/ 5760 h 412560"/>
                  <a:gd name="textAreaBottom" fmla="*/ 406800 h 412560"/>
                </a:gdLst>
                <a:ahLst/>
                <a:rect l="textAreaLeft" t="textAreaTop" r="textAreaRight" b="textAreaBottom"/>
                <a:pathLst>
                  <a:path w="21600" h="72868">
                    <a:moveTo>
                      <a:pt x="3600" y="0"/>
                    </a:moveTo>
                    <a:arcTo wR="3600" hR="3600" stAng="16200000" swAng="-5400000"/>
                    <a:lnTo>
                      <a:pt x="0" y="69268"/>
                    </a:lnTo>
                    <a:arcTo wR="3600" hR="3600" stAng="10800000" swAng="-5400000"/>
                    <a:lnTo>
                      <a:pt x="18000" y="7286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3b200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778120" y="5911920"/>
                <a:ext cx="122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778120" y="6035760"/>
                <a:ext cx="122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778120" y="6076800"/>
                <a:ext cx="122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778120" y="6118200"/>
                <a:ext cx="122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778120" y="6159600"/>
                <a:ext cx="122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778120" y="6200640"/>
                <a:ext cx="122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870280" y="6076800"/>
                <a:ext cx="0" cy="123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840040" y="6076800"/>
                <a:ext cx="0" cy="123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808360" y="6076800"/>
                <a:ext cx="0" cy="123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2949480" y="5980320"/>
              <a:ext cx="341280" cy="137160"/>
            </a:xfrm>
            <a:prstGeom prst="rect">
              <a:avLst/>
            </a:prstGeom>
            <a:solidFill>
              <a:srgbClr val="4d4d4d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</a:rPr>
                <a:t>01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4478400" y="5792760"/>
            <a:ext cx="57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ora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4322880" y="5827680"/>
            <a:ext cx="122040" cy="412920"/>
            <a:chOff x="4322880" y="5827680"/>
            <a:chExt cx="122040" cy="412920"/>
          </a:xfrm>
        </p:grpSpPr>
        <p:sp>
          <p:nvSpPr>
            <p:cNvPr id="368" name=""/>
            <p:cNvSpPr/>
            <p:nvPr/>
          </p:nvSpPr>
          <p:spPr>
            <a:xfrm>
              <a:off x="4322880" y="5827680"/>
              <a:ext cx="122040" cy="41292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412920"/>
                <a:gd name="textAreaBottom" fmla="*/ 407160 h 412920"/>
              </a:gdLst>
              <a:ahLst/>
              <a:rect l="textAreaLeft" t="textAreaTop" r="textAreaRight" b="textAreaBottom"/>
              <a:pathLst>
                <a:path w="21600" h="72932">
                  <a:moveTo>
                    <a:pt x="3600" y="0"/>
                  </a:moveTo>
                  <a:arcTo wR="3600" hR="3600" stAng="16200000" swAng="-5400000"/>
                  <a:lnTo>
                    <a:pt x="0" y="69332"/>
                  </a:lnTo>
                  <a:arcTo wR="3600" hR="3600" stAng="10800000" swAng="-5400000"/>
                  <a:lnTo>
                    <a:pt x="18000" y="72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3b20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322880" y="591048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22880" y="603432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22880" y="60753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22880" y="61167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22880" y="61581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322880" y="61992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414680" y="60753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384440" y="60753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52760" y="60753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4494240" y="5961240"/>
            <a:ext cx="3412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5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26040" y="4091040"/>
            <a:ext cx="798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o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19640" y="4248000"/>
            <a:ext cx="35856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6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444680" y="4106880"/>
            <a:ext cx="1274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X70/CX70Emo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501920" y="4259160"/>
            <a:ext cx="3394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9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4986360" y="3855960"/>
            <a:ext cx="208080" cy="387360"/>
            <a:chOff x="4986360" y="3855960"/>
            <a:chExt cx="208080" cy="387360"/>
          </a:xfrm>
        </p:grpSpPr>
        <p:sp>
          <p:nvSpPr>
            <p:cNvPr id="384" name=""/>
            <p:cNvSpPr/>
            <p:nvPr/>
          </p:nvSpPr>
          <p:spPr>
            <a:xfrm>
              <a:off x="5068800" y="3855960"/>
              <a:ext cx="125640" cy="232200"/>
            </a:xfrm>
            <a:custGeom>
              <a:avLst/>
              <a:gdLst>
                <a:gd name="textAreaLeft" fmla="*/ 6120 w 125640"/>
                <a:gd name="textAreaRight" fmla="*/ 119520 w 125640"/>
                <a:gd name="textAreaTop" fmla="*/ 6120 h 232200"/>
                <a:gd name="textAreaBottom" fmla="*/ 226080 h 232200"/>
              </a:gdLst>
              <a:ahLst/>
              <a:rect l="textAreaLeft" t="textAreaTop" r="textAreaRight" b="textAreaBottom"/>
              <a:pathLst>
                <a:path w="21600" h="39867">
                  <a:moveTo>
                    <a:pt x="3600" y="0"/>
                  </a:moveTo>
                  <a:arcTo wR="3600" hR="3600" stAng="16200000" swAng="-5400000"/>
                  <a:lnTo>
                    <a:pt x="0" y="36267"/>
                  </a:lnTo>
                  <a:arcTo wR="3600" hR="3600" stAng="10800000" swAng="-5400000"/>
                  <a:lnTo>
                    <a:pt x="18000" y="398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986360" y="4086000"/>
              <a:ext cx="194400" cy="1573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068800" y="3933360"/>
              <a:ext cx="12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68800" y="4049640"/>
              <a:ext cx="12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055120" y="4107600"/>
              <a:ext cx="12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029560" y="4146480"/>
              <a:ext cx="12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011560" y="4185360"/>
              <a:ext cx="12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5023440" y="410760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89960" y="4216680"/>
              <a:ext cx="12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5052960" y="411012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5086440" y="410760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4629240" y="4137120"/>
            <a:ext cx="207360" cy="387360"/>
            <a:chOff x="4629240" y="4137120"/>
            <a:chExt cx="207360" cy="387360"/>
          </a:xfrm>
        </p:grpSpPr>
        <p:sp>
          <p:nvSpPr>
            <p:cNvPr id="396" name=""/>
            <p:cNvSpPr/>
            <p:nvPr/>
          </p:nvSpPr>
          <p:spPr>
            <a:xfrm>
              <a:off x="4711320" y="4137120"/>
              <a:ext cx="125280" cy="232200"/>
            </a:xfrm>
            <a:custGeom>
              <a:avLst/>
              <a:gdLst>
                <a:gd name="textAreaLeft" fmla="*/ 6120 w 125280"/>
                <a:gd name="textAreaRight" fmla="*/ 119160 w 125280"/>
                <a:gd name="textAreaTop" fmla="*/ 6120 h 232200"/>
                <a:gd name="textAreaBottom" fmla="*/ 226080 h 232200"/>
              </a:gdLst>
              <a:ahLst/>
              <a:rect l="textAreaLeft" t="textAreaTop" r="textAreaRight" b="textAreaBottom"/>
              <a:pathLst>
                <a:path w="21600" h="39982">
                  <a:moveTo>
                    <a:pt x="3600" y="0"/>
                  </a:moveTo>
                  <a:arcTo wR="3600" hR="3600" stAng="16200000" swAng="-5400000"/>
                  <a:lnTo>
                    <a:pt x="0" y="36382"/>
                  </a:lnTo>
                  <a:arcTo wR="3600" hR="3600" stAng="10800000" swAng="-5400000"/>
                  <a:lnTo>
                    <a:pt x="18000" y="399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629240" y="4367160"/>
              <a:ext cx="194040" cy="1573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711320" y="421452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711320" y="433080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697640" y="438876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672080" y="442764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654440" y="446652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4666320" y="438876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632840" y="449784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695840" y="439128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728960" y="438876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4410000" y="4792680"/>
            <a:ext cx="725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egas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6170760" y="2922480"/>
            <a:ext cx="207360" cy="387360"/>
            <a:chOff x="6170760" y="2922480"/>
            <a:chExt cx="207360" cy="387360"/>
          </a:xfrm>
        </p:grpSpPr>
        <p:sp>
          <p:nvSpPr>
            <p:cNvPr id="409" name=""/>
            <p:cNvSpPr/>
            <p:nvPr/>
          </p:nvSpPr>
          <p:spPr>
            <a:xfrm>
              <a:off x="6252840" y="2922480"/>
              <a:ext cx="125280" cy="232200"/>
            </a:xfrm>
            <a:custGeom>
              <a:avLst/>
              <a:gdLst>
                <a:gd name="textAreaLeft" fmla="*/ 6120 w 125280"/>
                <a:gd name="textAreaRight" fmla="*/ 119160 w 125280"/>
                <a:gd name="textAreaTop" fmla="*/ 6120 h 232200"/>
                <a:gd name="textAreaBottom" fmla="*/ 226080 h 232200"/>
              </a:gdLst>
              <a:ahLst/>
              <a:rect l="textAreaLeft" t="textAreaTop" r="textAreaRight" b="textAreaBottom"/>
              <a:pathLst>
                <a:path w="21600" h="39982">
                  <a:moveTo>
                    <a:pt x="3600" y="0"/>
                  </a:moveTo>
                  <a:arcTo wR="3600" hR="3600" stAng="16200000" swAng="-5400000"/>
                  <a:lnTo>
                    <a:pt x="0" y="36382"/>
                  </a:lnTo>
                  <a:arcTo wR="3600" hR="3600" stAng="10800000" swAng="-5400000"/>
                  <a:lnTo>
                    <a:pt x="18000" y="399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70760" y="3152520"/>
              <a:ext cx="194040" cy="1573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252840" y="299988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252840" y="311616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239160" y="317412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213600" y="321300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95960" y="325188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6207840" y="317412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174360" y="328320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6237360" y="317664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6270480" y="317412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6367320" y="2406600"/>
            <a:ext cx="303120" cy="291960"/>
            <a:chOff x="6367320" y="2406600"/>
            <a:chExt cx="303120" cy="291960"/>
          </a:xfrm>
        </p:grpSpPr>
        <p:sp>
          <p:nvSpPr>
            <p:cNvPr id="421" name=""/>
            <p:cNvSpPr/>
            <p:nvPr/>
          </p:nvSpPr>
          <p:spPr>
            <a:xfrm>
              <a:off x="6367320" y="2555640"/>
              <a:ext cx="236520" cy="1429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6c837f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62646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451560" y="25765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419520" y="261144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399000" y="26463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6413040" y="2576520"/>
              <a:ext cx="75960" cy="95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72000" y="26748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6447960" y="2577960"/>
              <a:ext cx="75960" cy="96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6489360" y="2576520"/>
              <a:ext cx="76320" cy="95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433920" y="2406600"/>
              <a:ext cx="236520" cy="17604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6c837f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62646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508440" y="245268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65600" y="251460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2305080" y="1893960"/>
            <a:ext cx="55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K65*</a:t>
            </a:r>
            <a:r>
              <a:rPr b="1" lang="en-GB" sz="1200" spc="-1" strike="noStrike" baseline="30000">
                <a:solidFill>
                  <a:srgbClr val="000000"/>
                </a:solidFill>
                <a:latin typeface="Arial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402000" y="4778280"/>
            <a:ext cx="132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eopa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lor re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16400" y="5126040"/>
            <a:ext cx="35856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2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948040" y="4433760"/>
            <a:ext cx="281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962440" y="4586400"/>
            <a:ext cx="34272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392880" y="2882880"/>
            <a:ext cx="798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ir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5784840" y="3848040"/>
            <a:ext cx="122400" cy="412920"/>
            <a:chOff x="5784840" y="3848040"/>
            <a:chExt cx="122400" cy="412920"/>
          </a:xfrm>
        </p:grpSpPr>
        <p:sp>
          <p:nvSpPr>
            <p:cNvPr id="439" name=""/>
            <p:cNvSpPr/>
            <p:nvPr/>
          </p:nvSpPr>
          <p:spPr>
            <a:xfrm>
              <a:off x="5784840" y="3848040"/>
              <a:ext cx="122400" cy="412920"/>
            </a:xfrm>
            <a:custGeom>
              <a:avLst/>
              <a:gdLst>
                <a:gd name="textAreaLeft" fmla="*/ 5760 w 122400"/>
                <a:gd name="textAreaRight" fmla="*/ 116640 w 122400"/>
                <a:gd name="textAreaTop" fmla="*/ 5760 h 412920"/>
                <a:gd name="textAreaBottom" fmla="*/ 407160 h 412920"/>
              </a:gdLst>
              <a:ahLst/>
              <a:rect l="textAreaLeft" t="textAreaTop" r="textAreaRight" b="textAreaBottom"/>
              <a:pathLst>
                <a:path w="21600" h="72718">
                  <a:moveTo>
                    <a:pt x="3600" y="0"/>
                  </a:moveTo>
                  <a:arcTo wR="3600" hR="3600" stAng="16200000" swAng="-5400000"/>
                  <a:lnTo>
                    <a:pt x="0" y="69118"/>
                  </a:lnTo>
                  <a:arcTo wR="3600" hR="3600" stAng="10800000" swAng="-5400000"/>
                  <a:lnTo>
                    <a:pt x="18000" y="7271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784840" y="393048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84840" y="405432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784840" y="409572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84840" y="413712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784840" y="417816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784840" y="421956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877000" y="409572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846760" y="409572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815080" y="409572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1359000" y="4127400"/>
            <a:ext cx="120600" cy="412920"/>
            <a:chOff x="1359000" y="4127400"/>
            <a:chExt cx="120600" cy="412920"/>
          </a:xfrm>
        </p:grpSpPr>
        <p:sp>
          <p:nvSpPr>
            <p:cNvPr id="450" name=""/>
            <p:cNvSpPr/>
            <p:nvPr/>
          </p:nvSpPr>
          <p:spPr>
            <a:xfrm>
              <a:off x="1359000" y="4127400"/>
              <a:ext cx="120600" cy="412920"/>
            </a:xfrm>
            <a:custGeom>
              <a:avLst/>
              <a:gdLst>
                <a:gd name="textAreaLeft" fmla="*/ 5760 w 120600"/>
                <a:gd name="textAreaRight" fmla="*/ 114840 w 120600"/>
                <a:gd name="textAreaTop" fmla="*/ 5760 h 412920"/>
                <a:gd name="textAreaBottom" fmla="*/ 407160 h 412920"/>
              </a:gdLst>
              <a:ahLst/>
              <a:rect l="textAreaLeft" t="textAreaTop" r="textAreaRight" b="textAreaBottom"/>
              <a:pathLst>
                <a:path w="21600" h="73800">
                  <a:moveTo>
                    <a:pt x="3600" y="0"/>
                  </a:moveTo>
                  <a:arcTo wR="3600" hR="3600" stAng="16200000" swAng="-5400000"/>
                  <a:lnTo>
                    <a:pt x="0" y="70200"/>
                  </a:lnTo>
                  <a:arcTo wR="3600" hR="3600" stAng="10800000" swAng="-5400000"/>
                  <a:lnTo>
                    <a:pt x="18000" y="738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59000" y="4209840"/>
              <a:ext cx="120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359000" y="4334040"/>
              <a:ext cx="120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359000" y="4375080"/>
              <a:ext cx="120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359000" y="4416480"/>
              <a:ext cx="120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359000" y="4457880"/>
              <a:ext cx="120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359000" y="4498920"/>
              <a:ext cx="120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449360" y="437508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419120" y="437508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389240" y="437508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2792520" y="4424400"/>
            <a:ext cx="122040" cy="412560"/>
            <a:chOff x="2792520" y="4424400"/>
            <a:chExt cx="122040" cy="412560"/>
          </a:xfrm>
        </p:grpSpPr>
        <p:sp>
          <p:nvSpPr>
            <p:cNvPr id="461" name=""/>
            <p:cNvSpPr/>
            <p:nvPr/>
          </p:nvSpPr>
          <p:spPr>
            <a:xfrm>
              <a:off x="2792520" y="4424400"/>
              <a:ext cx="122040" cy="41256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2868">
                  <a:moveTo>
                    <a:pt x="3600" y="0"/>
                  </a:moveTo>
                  <a:arcTo wR="3600" hR="3600" stAng="16200000" swAng="-5400000"/>
                  <a:lnTo>
                    <a:pt x="0" y="69268"/>
                  </a:lnTo>
                  <a:arcTo wR="3600" hR="3600" stAng="10800000" swAng="-5400000"/>
                  <a:lnTo>
                    <a:pt x="18000" y="728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792520" y="45068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792520" y="463068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92520" y="467172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792520" y="471312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792520" y="475452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792520" y="47955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883960" y="467172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853360" y="467172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823120" y="467172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6170760" y="2379600"/>
            <a:ext cx="190080" cy="349200"/>
            <a:chOff x="6170760" y="2379600"/>
            <a:chExt cx="190080" cy="349200"/>
          </a:xfrm>
        </p:grpSpPr>
        <p:sp>
          <p:nvSpPr>
            <p:cNvPr id="472" name=""/>
            <p:cNvSpPr/>
            <p:nvPr/>
          </p:nvSpPr>
          <p:spPr>
            <a:xfrm>
              <a:off x="6246360" y="2379600"/>
              <a:ext cx="114480" cy="209520"/>
            </a:xfrm>
            <a:custGeom>
              <a:avLst/>
              <a:gdLst>
                <a:gd name="textAreaLeft" fmla="*/ 5400 w 114480"/>
                <a:gd name="textAreaRight" fmla="*/ 109080 w 114480"/>
                <a:gd name="textAreaTop" fmla="*/ 5400 h 209520"/>
                <a:gd name="textAreaBottom" fmla="*/ 204120 h 209520"/>
              </a:gdLst>
              <a:ahLst/>
              <a:rect l="textAreaLeft" t="textAreaTop" r="textAreaRight" b="textAreaBottom"/>
              <a:pathLst>
                <a:path w="21600" h="39476">
                  <a:moveTo>
                    <a:pt x="3600" y="0"/>
                  </a:moveTo>
                  <a:arcTo wR="3600" hR="3600" stAng="16200000" swAng="-5400000"/>
                  <a:lnTo>
                    <a:pt x="0" y="35876"/>
                  </a:lnTo>
                  <a:arcTo wR="3600" hR="3600" stAng="10800000" swAng="-5400000"/>
                  <a:lnTo>
                    <a:pt x="18000" y="394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46028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170760" y="2587680"/>
              <a:ext cx="177480" cy="1411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d46028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246360" y="2449440"/>
              <a:ext cx="1144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246360" y="2554200"/>
              <a:ext cx="1144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233400" y="2606760"/>
              <a:ext cx="1144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209280" y="2641680"/>
              <a:ext cx="1159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193440" y="2676600"/>
              <a:ext cx="1159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6204600" y="2606760"/>
              <a:ext cx="5760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174000" y="2705040"/>
              <a:ext cx="1144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6231960" y="2608200"/>
              <a:ext cx="5616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6262200" y="2606760"/>
              <a:ext cx="5652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5737320" y="2347920"/>
            <a:ext cx="5349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854680" y="2498760"/>
            <a:ext cx="33012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10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273800" y="1100160"/>
            <a:ext cx="170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9e1d3e"/>
                </a:solidFill>
                <a:latin typeface="Arial"/>
              </a:rPr>
              <a:t>For internal planning purposes</a:t>
            </a:r>
            <a:br>
              <a:rPr sz="1000"/>
            </a:br>
            <a:r>
              <a:rPr b="1" lang="en-GB" sz="1000" spc="-1" strike="noStrike">
                <a:solidFill>
                  <a:srgbClr val="9e1d3e"/>
                </a:solidFill>
                <a:latin typeface="Arial"/>
              </a:rPr>
              <a:t>only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462320" y="6669000"/>
            <a:ext cx="197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subject to change without noti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3152880" y="4824360"/>
            <a:ext cx="209160" cy="387360"/>
            <a:chOff x="3152880" y="4824360"/>
            <a:chExt cx="209160" cy="387360"/>
          </a:xfrm>
        </p:grpSpPr>
        <p:sp>
          <p:nvSpPr>
            <p:cNvPr id="488" name=""/>
            <p:cNvSpPr/>
            <p:nvPr/>
          </p:nvSpPr>
          <p:spPr>
            <a:xfrm>
              <a:off x="3235680" y="4824360"/>
              <a:ext cx="126360" cy="232200"/>
            </a:xfrm>
            <a:custGeom>
              <a:avLst/>
              <a:gdLst>
                <a:gd name="textAreaLeft" fmla="*/ 6120 w 126360"/>
                <a:gd name="textAreaRight" fmla="*/ 120240 w 126360"/>
                <a:gd name="textAreaTop" fmla="*/ 6120 h 232200"/>
                <a:gd name="textAreaBottom" fmla="*/ 226080 h 232200"/>
              </a:gdLst>
              <a:ahLst/>
              <a:rect l="textAreaLeft" t="textAreaTop" r="textAreaRight" b="textAreaBottom"/>
              <a:pathLst>
                <a:path w="21600" h="39641">
                  <a:moveTo>
                    <a:pt x="3600" y="0"/>
                  </a:moveTo>
                  <a:arcTo wR="3600" hR="3600" stAng="16200000" swAng="-5400000"/>
                  <a:lnTo>
                    <a:pt x="0" y="36041"/>
                  </a:lnTo>
                  <a:arcTo wR="3600" hR="3600" stAng="10800000" swAng="-5400000"/>
                  <a:lnTo>
                    <a:pt x="18000" y="3964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152880" y="5054400"/>
              <a:ext cx="195480" cy="1573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235680" y="4901760"/>
              <a:ext cx="12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235680" y="5018040"/>
              <a:ext cx="12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222000" y="5076000"/>
              <a:ext cx="12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96080" y="5114880"/>
              <a:ext cx="12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178440" y="5153760"/>
              <a:ext cx="12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3189960" y="5076000"/>
              <a:ext cx="6300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156480" y="5185080"/>
              <a:ext cx="12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3219480" y="5078520"/>
              <a:ext cx="6300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3253680" y="5076000"/>
              <a:ext cx="6336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4935600" y="4363920"/>
            <a:ext cx="64296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ries*</a:t>
            </a:r>
            <a:r>
              <a:rPr b="1" lang="en-GB" sz="12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5445000" y="4400640"/>
            <a:ext cx="123840" cy="412560"/>
            <a:chOff x="5445000" y="4400640"/>
            <a:chExt cx="123840" cy="412560"/>
          </a:xfrm>
        </p:grpSpPr>
        <p:sp>
          <p:nvSpPr>
            <p:cNvPr id="501" name=""/>
            <p:cNvSpPr/>
            <p:nvPr/>
          </p:nvSpPr>
          <p:spPr>
            <a:xfrm>
              <a:off x="5445000" y="4400640"/>
              <a:ext cx="123840" cy="412560"/>
            </a:xfrm>
            <a:custGeom>
              <a:avLst/>
              <a:gdLst>
                <a:gd name="textAreaLeft" fmla="*/ 5760 w 123840"/>
                <a:gd name="textAreaRight" fmla="*/ 118080 w 12384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1812">
                  <a:moveTo>
                    <a:pt x="3600" y="0"/>
                  </a:moveTo>
                  <a:arcTo wR="3600" hR="3600" stAng="16200000" swAng="-5400000"/>
                  <a:lnTo>
                    <a:pt x="0" y="68212"/>
                  </a:lnTo>
                  <a:arcTo wR="3600" hR="3600" stAng="10800000" swAng="-5400000"/>
                  <a:lnTo>
                    <a:pt x="18000" y="718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445000" y="448308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445000" y="460692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445000" y="464796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445000" y="468936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45000" y="473076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445000" y="477180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537880" y="464796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506920" y="464796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475960" y="464796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5041800" y="4532400"/>
            <a:ext cx="36216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8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751200" y="2367000"/>
            <a:ext cx="113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64*</a:t>
            </a:r>
            <a:r>
              <a:rPr b="1" lang="en-GB" sz="1200" spc="-1" strike="noStrike" baseline="30000">
                <a:solidFill>
                  <a:srgbClr val="000000"/>
                </a:solidFill>
                <a:latin typeface="Arial"/>
              </a:rPr>
              <a:t>1)*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3591000" y="2401920"/>
            <a:ext cx="123480" cy="412560"/>
            <a:chOff x="3591000" y="2401920"/>
            <a:chExt cx="123480" cy="412560"/>
          </a:xfrm>
        </p:grpSpPr>
        <p:sp>
          <p:nvSpPr>
            <p:cNvPr id="514" name=""/>
            <p:cNvSpPr/>
            <p:nvPr/>
          </p:nvSpPr>
          <p:spPr>
            <a:xfrm>
              <a:off x="3591000" y="2401920"/>
              <a:ext cx="123480" cy="412560"/>
            </a:xfrm>
            <a:custGeom>
              <a:avLst/>
              <a:gdLst>
                <a:gd name="textAreaLeft" fmla="*/ 5760 w 123480"/>
                <a:gd name="textAreaRight" fmla="*/ 117720 w 12348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2021">
                  <a:moveTo>
                    <a:pt x="3600" y="0"/>
                  </a:moveTo>
                  <a:arcTo wR="3600" hR="3600" stAng="16200000" swAng="-5400000"/>
                  <a:lnTo>
                    <a:pt x="0" y="68421"/>
                  </a:lnTo>
                  <a:arcTo wR="3600" hR="3600" stAng="10800000" swAng="-5400000"/>
                  <a:lnTo>
                    <a:pt x="18000" y="720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c837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91000" y="2484360"/>
              <a:ext cx="123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591000" y="2608200"/>
              <a:ext cx="123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591000" y="2649600"/>
              <a:ext cx="123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591000" y="2690640"/>
              <a:ext cx="123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591000" y="2732040"/>
              <a:ext cx="123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591000" y="2773440"/>
              <a:ext cx="123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684240" y="26496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653640" y="26496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621240" y="26496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3762360" y="2532240"/>
            <a:ext cx="3430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3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5826240" y="2927520"/>
            <a:ext cx="123840" cy="412560"/>
            <a:chOff x="5826240" y="2927520"/>
            <a:chExt cx="123840" cy="412560"/>
          </a:xfrm>
        </p:grpSpPr>
        <p:sp>
          <p:nvSpPr>
            <p:cNvPr id="526" name=""/>
            <p:cNvSpPr/>
            <p:nvPr/>
          </p:nvSpPr>
          <p:spPr>
            <a:xfrm>
              <a:off x="5826240" y="2927520"/>
              <a:ext cx="123840" cy="412560"/>
            </a:xfrm>
            <a:custGeom>
              <a:avLst/>
              <a:gdLst>
                <a:gd name="textAreaLeft" fmla="*/ 5760 w 123840"/>
                <a:gd name="textAreaRight" fmla="*/ 118080 w 12384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1812">
                  <a:moveTo>
                    <a:pt x="3600" y="0"/>
                  </a:moveTo>
                  <a:arcTo wR="3600" hR="3600" stAng="16200000" swAng="-5400000"/>
                  <a:lnTo>
                    <a:pt x="0" y="68212"/>
                  </a:lnTo>
                  <a:arcTo wR="3600" hR="3600" stAng="10800000" swAng="-5400000"/>
                  <a:lnTo>
                    <a:pt x="18000" y="718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826240" y="300996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826240" y="313380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826240" y="317484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826240" y="321624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26240" y="325764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826240" y="329868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919120" y="317484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888160" y="317484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857200" y="317484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2335320" y="4273560"/>
            <a:ext cx="3412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12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86400" y="4991040"/>
            <a:ext cx="2260440" cy="1359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255720" y="2787480"/>
            <a:ext cx="29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Siemens San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52320" y="2266920"/>
            <a:ext cx="29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Siemens San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538360" y="3511440"/>
            <a:ext cx="64296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M65 Resc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3271680" y="3421080"/>
            <a:ext cx="123840" cy="412560"/>
            <a:chOff x="3271680" y="3421080"/>
            <a:chExt cx="123840" cy="412560"/>
          </a:xfrm>
        </p:grpSpPr>
        <p:sp>
          <p:nvSpPr>
            <p:cNvPr id="542" name=""/>
            <p:cNvSpPr/>
            <p:nvPr/>
          </p:nvSpPr>
          <p:spPr>
            <a:xfrm>
              <a:off x="3271680" y="3421080"/>
              <a:ext cx="123840" cy="412560"/>
            </a:xfrm>
            <a:custGeom>
              <a:avLst/>
              <a:gdLst>
                <a:gd name="textAreaLeft" fmla="*/ 5760 w 123840"/>
                <a:gd name="textAreaRight" fmla="*/ 118080 w 12384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1812">
                  <a:moveTo>
                    <a:pt x="3600" y="0"/>
                  </a:moveTo>
                  <a:arcTo wR="3600" hR="3600" stAng="16200000" swAng="-5400000"/>
                  <a:lnTo>
                    <a:pt x="0" y="68212"/>
                  </a:lnTo>
                  <a:arcTo wR="3600" hR="3600" stAng="10800000" swAng="-5400000"/>
                  <a:lnTo>
                    <a:pt x="18000" y="718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271680" y="350352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271680" y="362736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271680" y="366840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271680" y="370980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271680" y="375120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271680" y="379224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364560" y="36684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333600" y="36684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302640" y="36684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2868480" y="3540240"/>
            <a:ext cx="36216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2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374920" y="3124080"/>
            <a:ext cx="1409760" cy="901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2:57:33Z</dcterms:created>
  <dc:creator>demx11k2</dc:creator>
  <dc:description/>
  <dc:language>en-US</dc:language>
  <cp:lastModifiedBy>Dr. Thai Lai Pham</cp:lastModifiedBy>
  <dcterms:modified xsi:type="dcterms:W3CDTF">2004-12-06T17:22:26Z</dcterms:modified>
  <cp:revision>1007</cp:revision>
  <dc:subject/>
  <dc:title>PRÄSENTATIONSTITEL MAX. 2-ZEILI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38410643</vt:r8>
  </property>
  <property fmtid="{D5CDD505-2E9C-101B-9397-08002B2CF9AE}" pid="3" name="_AuthorEmail">
    <vt:lpwstr>jan.cron@siemens.com</vt:lpwstr>
  </property>
  <property fmtid="{D5CDD505-2E9C-101B-9397-08002B2CF9AE}" pid="4" name="_AuthorEmailDisplayName">
    <vt:lpwstr>Cron Jan ICM MP PBM PM</vt:lpwstr>
  </property>
  <property fmtid="{D5CDD505-2E9C-101B-9397-08002B2CF9AE}" pid="5" name="_EmailSubject">
    <vt:lpwstr>ppt</vt:lpwstr>
  </property>
  <property fmtid="{D5CDD505-2E9C-101B-9397-08002B2CF9AE}" pid="6" name="_PreviousAdHocReviewCycleID">
    <vt:r8>-1100798859</vt:r8>
  </property>
  <property fmtid="{D5CDD505-2E9C-101B-9397-08002B2CF9AE}" pid="7" name="_ReviewingToolsShownOnce">
    <vt:lpwstr/>
  </property>
</Properties>
</file>